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841488"/>
        <c:axId val="86882400"/>
      </c:barChart>
      <c:catAx>
        <c:axId val="8841488"/>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6882400"/>
        <c:crosses val="autoZero"/>
        <c:auto val="1"/>
        <c:lblAlgn val="ctr"/>
        <c:lblOffset val="100"/>
        <c:noMultiLvlLbl val="0"/>
      </c:catAx>
      <c:valAx>
        <c:axId val="86882400"/>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841488"/>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28EF7-BCAB-4B52-A602-25FAB0E29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3B979-D1D1-44C8-B1E5-8DA4344A9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8B329-0C50-45DF-AB7A-2C67319AE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0E0CC-7EE4-407F-9060-DDF9F6F99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42B3D-C9C4-4F9D-A906-ECD0907FF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3E9AB-CEE0-4982-B91C-AD731C438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90985-7206-4D82-B1B5-1316FAB2A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C18ED-36A2-4584-8602-FA346B34D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569C8-E232-4585-9037-C1C7FFB44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F76B0-9212-445A-8D70-E2682EFD8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E90E-E39C-4D55-B86F-D539B9A64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116A2-A0C6-453C-9DE8-0BC2347B8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122C3-302A-4D26-B9F6-73D1AA4D1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370C1-AC3F-4CD6-B3E4-3038F0E08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5F089-9BF2-4A00-A0AD-BEB574104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D56B4-BD62-46AB-A27A-93FF4E426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FA1A1-12F6-4F81-90EA-62C3251B7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5ED20-30F3-4B1D-8F1F-2588887A9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96FC5-E5F9-411B-BAA6-4EC149EBC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6FBA4-5C27-4AFB-83F2-398DC30A2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40B2C-A18F-41B1-A967-0906A9E99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1688-CE1C-4BB7-B615-DF44FA73A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EA0E3-6257-45A3-903A-38FD9007B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B8058-724A-4809-8BA8-90BBAC562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9BDA7-E159-4C94-B976-C6C493EC51F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2DB24-4F62-44ED-8F8D-B30A6F4C2B4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