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5992080"/>
        <c:axId val="72270464"/>
      </c:barChart>
      <c:catAx>
        <c:axId val="2599208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2270464"/>
        <c:crosses val="autoZero"/>
        <c:auto val="1"/>
        <c:lblAlgn val="ctr"/>
        <c:lblOffset val="100"/>
        <c:noMultiLvlLbl val="0"/>
      </c:catAx>
      <c:valAx>
        <c:axId val="7227046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599208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3766F-CD88-4795-AE05-38AA63474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75BF8-1626-4D20-847E-7F45535E7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BFD8B-C146-4F19-86F2-B3A59FB71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D4742-44EF-40C2-A4F0-F7D7A43A3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5627E-718E-4CBD-AF16-DD04F96180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4C933-0B2D-4224-B2BC-9BCAE043E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7CDEB-D3F0-4ED2-9236-575338055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7AC85-B1F3-4A10-AC9E-67641B861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29208-FECD-4E0E-845A-28A9AEE88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C7D53-C08F-4F8C-A14B-BFE2F26C7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6B9A0-535E-46C7-A470-F6E72338C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18F1F-34C8-484A-A8F6-7DA741B6C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05FF0-BA85-4BBB-BEDF-32AE97A4D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A1CAB-30EF-43E7-85AA-A7C117F1D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CF03F-8B62-49A8-8E65-FA3423389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D182C-73DD-419D-89A8-6682205C9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59AFC-EFDD-4D6A-B691-6CFEC0C62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7AAD7-3217-40FE-9B17-9C2BC046A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CB983-5413-4093-8EFF-377E22605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46642-E348-47B3-9DEA-E580546E1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52CE3-044F-4E57-AC64-AD6A9B16B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CD232-9543-494F-9361-E41499FE8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A656B-C109-4BC0-851E-49BB854D3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E40FA-4BAE-4098-A519-BF0892F4B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9EF3D2-79D6-4E4E-A2C8-A8B4292E53D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3617CD-5D1C-4698-A051-F1E92370A3F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